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EC7-A8F8-466F-A977-0583F52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BCA-DE1E-4107-95BE-1D99C77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08D-C760-4496-A1F5-6D35CE05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CBC-ED62-4527-A278-410C2FE1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26C-388B-48E8-89CA-F3252381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FA9-2CAE-46C6-8629-EE248AA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3016-89D1-4BC6-9221-7180C5B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471E-0451-4C32-9944-D56FAC1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FCC-021E-4FF8-8952-259A3D32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940F-C5D2-4FE0-9D0A-EDAACC5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181-3DD9-460D-93D5-9EAB8E3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185-501C-4CFF-A7F3-C86421AF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2968-B7F4-4848-AE9E-F0A1A57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F14F-0D84-4C13-BE11-1F237C27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2E2-26E2-4D35-A794-5E66512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3598-0479-40FE-A32C-D9043497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1C0-8E19-4BD8-A12C-9D98251D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6AB-E443-4EAA-B6C4-A28155C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C3E-036C-4932-98C3-EA3B038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43B-7B7C-4422-8266-36CA5849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333-B897-49A7-80C4-A49D99A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4C8-01D1-44E4-81E0-DFAE5BE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B0C-77DC-4D84-A819-4876546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BAA-C7E6-4F19-A082-D8ADBF28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381-C34C-4509-9EA7-A31B42DAA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066-10E2-4A93-96F8-C1E5F169D2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y fos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8120" y="-11160"/>
            <a:ext cx="64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0480" y="424188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By ; Emily Fos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60020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8954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676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ara El Desay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6680" y="2971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el huevo y la naranj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ino y cre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057400" cy="252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" y="3352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nar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19520" y="4267080"/>
            <a:ext cx="230508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1076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yog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986520" y="533520"/>
            <a:ext cx="2157480" cy="21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63440" y="950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go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06920" y="1922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El Almuerz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6000" y="874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2610000" cy="198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07640" y="950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86400" y="12952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02400" y="950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242892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88520" y="65898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 El Ce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479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262320" y="2557440"/>
            <a:ext cx="2619360" cy="1743120"/>
            <a:chOff x="3262320" y="2557440"/>
            <a:chExt cx="2619360" cy="1743120"/>
          </a:xfrm>
        </p:grpSpPr>
        <p:sp>
          <p:nvSpPr>
            <p:cNvPr id="126" name=""/>
            <p:cNvSpPr txBox="1"/>
            <p:nvPr/>
          </p:nvSpPr>
          <p:spPr>
            <a:xfrm>
              <a:off x="3262320" y="2557440"/>
              <a:ext cx="261936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485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25200" y="25509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52880" y="2666880"/>
            <a:ext cx="1447920" cy="210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35000" y="209376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de 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14600" y="2209680"/>
            <a:ext cx="1886040" cy="2543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5320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ot d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85800" y="220968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2480" y="1865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1076400" cy="12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63560" y="5294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Meri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2209680" cy="281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69080" y="4761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omitas de m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381040" cy="2371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-380880" y="1600200"/>
            <a:ext cx="3578040" cy="2560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43560" y="40752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atas fritas y s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39988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etas sa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601200" cy="7010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297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c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3600" y="3770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c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16280" y="300816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post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01880" y="11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971800" cy="6114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88920" y="47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3467160" cy="2819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35160" y="36939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3286080" cy="3467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025880" y="36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row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6:59Z</dcterms:created>
  <dc:creator>fosbergemi</dc:creator>
  <dc:description/>
  <dc:language>en-US</dc:language>
  <cp:lastModifiedBy>fosbergemi</cp:lastModifiedBy>
  <dcterms:modified xsi:type="dcterms:W3CDTF">2012-04-05T14:11:56Z</dcterms:modified>
  <cp:revision>5</cp:revision>
  <dc:subject/>
  <dc:title>Las Comidas</dc:title>
</cp:coreProperties>
</file>